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4480" y="706320"/>
            <a:ext cx="4646520" cy="34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152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152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F60DF395-A8A3-47E3-A05E-C414CE7972E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152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C38A72EA-57D1-427D-A772-687EB598AC9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152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66AD21-DEC1-418C-8E9A-5EB2814C39A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152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36E1C4CE-1D9F-41D9-9EAE-4BE910D5CB8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152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77B-8319-4649-A226-AFFCBF66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647-04D9-4ECF-867E-E3B99792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10D-C911-462E-B14B-6D1C2804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70C-DEC0-4CBB-B092-93D672EC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985-2609-4776-8941-CD77B60F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656-7CFB-4BC3-BD98-33184906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B50-A03B-4255-BEB3-2F9BE169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7E4-8DAE-4DFF-8680-1EE616F3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1B7-3926-4FF6-8CD0-A848D511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65C-E9B3-44A7-8B95-B115FA61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406-CD29-4FDF-9C7A-6900D6C8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8A4-9F31-4161-A83B-B7701A51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D170C-EA22-46EA-AD6F-83DAFBD1D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vectorc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euroweb.med.yale.edu/senselab/senselab-void.ttl#senselabontology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94156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RDF Overview and Updat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i Cheung, Ph.D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ale Center for Medical Informa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8200" y="6980400"/>
            <a:ext cx="7226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-SHALS 2009, Boston, Massachusetts, February 2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Journey to Query Feder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SPARQL Endpoint to Linked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or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match between Wikipedia and DB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Triple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 Data description an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300" spc="-1" strike="noStrike" u="sng">
                <a:solidFill>
                  <a:srgbClr val="ccccff"/>
                </a:solidFill>
                <a:uFillTx/>
                <a:latin typeface="Calibri"/>
                <a:ea typeface="Arial"/>
                <a:hlinkClick r:id="rId1"/>
              </a:rPr>
              <a:t>Copyright 2008 VectorC, LL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04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ptor Explor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0"/>
          <p:cNvGrpSpPr/>
          <p:nvPr/>
        </p:nvGrpSpPr>
        <p:grpSpPr>
          <a:xfrm>
            <a:off x="2184480" y="1344600"/>
            <a:ext cx="2015640" cy="1090800"/>
            <a:chOff x="2184480" y="1344600"/>
            <a:chExt cx="2015640" cy="1090800"/>
          </a:xfrm>
        </p:grpSpPr>
        <p:sp>
          <p:nvSpPr>
            <p:cNvPr id="90" name="Rectangle 18"/>
            <p:cNvSpPr/>
            <p:nvPr/>
          </p:nvSpPr>
          <p:spPr>
            <a:xfrm>
              <a:off x="2772360" y="1344600"/>
              <a:ext cx="1427760" cy="10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s involved in recep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>
              <a:off x="2184480" y="1926360"/>
              <a:ext cx="58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71"/>
          <p:cNvGrpSpPr/>
          <p:nvPr/>
        </p:nvGrpSpPr>
        <p:grpSpPr>
          <a:xfrm>
            <a:off x="4200480" y="1344600"/>
            <a:ext cx="2855520" cy="1090800"/>
            <a:chOff x="4200480" y="1344600"/>
            <a:chExt cx="2855520" cy="1090800"/>
          </a:xfrm>
        </p:grpSpPr>
        <p:sp>
          <p:nvSpPr>
            <p:cNvPr id="93" name="Rectangle 19"/>
            <p:cNvSpPr/>
            <p:nvPr/>
          </p:nvSpPr>
          <p:spPr>
            <a:xfrm>
              <a:off x="4620600" y="1344600"/>
              <a:ext cx="2435400" cy="10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ations about g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4200480" y="1926360"/>
              <a:ext cx="4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2"/>
          <p:cNvGrpSpPr/>
          <p:nvPr/>
        </p:nvGrpSpPr>
        <p:grpSpPr>
          <a:xfrm>
            <a:off x="7056360" y="1344600"/>
            <a:ext cx="2016000" cy="1090800"/>
            <a:chOff x="7056360" y="1344600"/>
            <a:chExt cx="2016000" cy="1090800"/>
          </a:xfrm>
        </p:grpSpPr>
        <p:sp>
          <p:nvSpPr>
            <p:cNvPr id="96" name="Rectangle 23"/>
            <p:cNvSpPr/>
            <p:nvPr/>
          </p:nvSpPr>
          <p:spPr>
            <a:xfrm>
              <a:off x="7560360" y="1344600"/>
              <a:ext cx="1512000" cy="10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al trials referencing pub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7056360" y="1890000"/>
              <a:ext cx="5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68120" y="4619520"/>
            <a:ext cx="9912240" cy="2665440"/>
            <a:chOff x="168120" y="4619520"/>
            <a:chExt cx="9912240" cy="2665440"/>
          </a:xfrm>
        </p:grpSpPr>
        <p:sp>
          <p:nvSpPr>
            <p:cNvPr id="99" name="Line 21"/>
            <p:cNvSpPr/>
            <p:nvPr/>
          </p:nvSpPr>
          <p:spPr>
            <a:xfrm>
              <a:off x="8148600" y="4955040"/>
              <a:ext cx="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76"/>
            <p:cNvSpPr/>
            <p:nvPr/>
          </p:nvSpPr>
          <p:spPr>
            <a:xfrm>
              <a:off x="7392600" y="5794920"/>
              <a:ext cx="1595520" cy="7556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altrials.go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84"/>
            <p:cNvGrpSpPr/>
            <p:nvPr/>
          </p:nvGrpSpPr>
          <p:grpSpPr>
            <a:xfrm>
              <a:off x="5208120" y="4619520"/>
              <a:ext cx="1007640" cy="1931040"/>
              <a:chOff x="5208120" y="4619520"/>
              <a:chExt cx="1007640" cy="1931040"/>
            </a:xfrm>
          </p:grpSpPr>
          <p:sp>
            <p:nvSpPr>
              <p:cNvPr id="102" name="Line 29"/>
              <p:cNvSpPr/>
              <p:nvPr/>
            </p:nvSpPr>
            <p:spPr>
              <a:xfrm>
                <a:off x="5711760" y="4619520"/>
                <a:ext cx="0" cy="10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77"/>
              <p:cNvSpPr/>
              <p:nvPr/>
            </p:nvSpPr>
            <p:spPr>
              <a:xfrm>
                <a:off x="5208120" y="5710680"/>
                <a:ext cx="1007640" cy="83988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bMe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86"/>
            <p:cNvGrpSpPr/>
            <p:nvPr/>
          </p:nvGrpSpPr>
          <p:grpSpPr>
            <a:xfrm>
              <a:off x="2100240" y="5290920"/>
              <a:ext cx="1007640" cy="1258920"/>
              <a:chOff x="2100240" y="5290920"/>
              <a:chExt cx="1007640" cy="1258920"/>
            </a:xfrm>
          </p:grpSpPr>
          <p:sp>
            <p:nvSpPr>
              <p:cNvPr id="105" name="AutoShape 73"/>
              <p:cNvSpPr/>
              <p:nvPr/>
            </p:nvSpPr>
            <p:spPr>
              <a:xfrm>
                <a:off x="2100240" y="5710320"/>
                <a:ext cx="1007640" cy="83952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kipedi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78"/>
              <p:cNvSpPr/>
              <p:nvPr/>
            </p:nvSpPr>
            <p:spPr>
              <a:xfrm>
                <a:off x="2603880" y="5290920"/>
                <a:ext cx="0" cy="41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Line 94"/>
            <p:cNvSpPr/>
            <p:nvPr/>
          </p:nvSpPr>
          <p:spPr>
            <a:xfrm>
              <a:off x="168120" y="5542920"/>
              <a:ext cx="974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6"/>
            <p:cNvSpPr/>
            <p:nvPr/>
          </p:nvSpPr>
          <p:spPr>
            <a:xfrm>
              <a:off x="9156600" y="6635160"/>
              <a:ext cx="92376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 si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68120" y="2435400"/>
            <a:ext cx="9743760" cy="3062880"/>
            <a:chOff x="168120" y="2435400"/>
            <a:chExt cx="9743760" cy="3062880"/>
          </a:xfrm>
        </p:grpSpPr>
        <p:grpSp>
          <p:nvGrpSpPr>
            <p:cNvPr id="110" name=""/>
            <p:cNvGrpSpPr/>
            <p:nvPr/>
          </p:nvGrpSpPr>
          <p:grpSpPr>
            <a:xfrm>
              <a:off x="252000" y="2435400"/>
              <a:ext cx="9659160" cy="3062880"/>
              <a:chOff x="252000" y="2435400"/>
              <a:chExt cx="9659160" cy="3062880"/>
            </a:xfrm>
          </p:grpSpPr>
          <p:sp>
            <p:nvSpPr>
              <p:cNvPr id="111" name="Text Box 95"/>
              <p:cNvSpPr/>
              <p:nvPr/>
            </p:nvSpPr>
            <p:spPr>
              <a:xfrm>
                <a:off x="9155520" y="5122800"/>
                <a:ext cx="755640" cy="37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D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22"/>
              <p:cNvSpPr/>
              <p:nvPr/>
            </p:nvSpPr>
            <p:spPr>
              <a:xfrm>
                <a:off x="3695760" y="3778920"/>
                <a:ext cx="3192120" cy="1595520"/>
              </a:xfrm>
              <a:prstGeom prst="can">
                <a:avLst>
                  <a:gd name="adj" fmla="val 1875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io2RDF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1"/>
              <p:cNvSpPr/>
              <p:nvPr/>
            </p:nvSpPr>
            <p:spPr>
              <a:xfrm flipH="1">
                <a:off x="1091880" y="2435400"/>
                <a:ext cx="335520" cy="142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22"/>
              <p:cNvSpPr/>
              <p:nvPr/>
            </p:nvSpPr>
            <p:spPr>
              <a:xfrm>
                <a:off x="7307640" y="3863160"/>
                <a:ext cx="1679760" cy="1259640"/>
              </a:xfrm>
              <a:prstGeom prst="can">
                <a:avLst>
                  <a:gd name="adj" fmla="val 1312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nkedct.org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30"/>
              <p:cNvSpPr/>
              <p:nvPr/>
            </p:nvSpPr>
            <p:spPr>
              <a:xfrm>
                <a:off x="7391880" y="4534920"/>
                <a:ext cx="1427760" cy="451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inicaltrials.gov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20"/>
              <p:cNvSpPr/>
              <p:nvPr/>
            </p:nvSpPr>
            <p:spPr>
              <a:xfrm>
                <a:off x="6719400" y="4618800"/>
                <a:ext cx="67212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31"/>
              <p:cNvSpPr/>
              <p:nvPr/>
            </p:nvSpPr>
            <p:spPr>
              <a:xfrm>
                <a:off x="8231400" y="2435400"/>
                <a:ext cx="0" cy="142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30"/>
              <p:cNvSpPr/>
              <p:nvPr/>
            </p:nvSpPr>
            <p:spPr>
              <a:xfrm>
                <a:off x="5459400" y="4367160"/>
                <a:ext cx="1259640" cy="45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bMe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55"/>
              <p:cNvSpPr/>
              <p:nvPr/>
            </p:nvSpPr>
            <p:spPr>
              <a:xfrm>
                <a:off x="5123880" y="4534920"/>
                <a:ext cx="335520" cy="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"/>
              <p:cNvSpPr/>
              <p:nvPr/>
            </p:nvSpPr>
            <p:spPr>
              <a:xfrm>
                <a:off x="6047640" y="2435400"/>
                <a:ext cx="0" cy="193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29"/>
              <p:cNvSpPr/>
              <p:nvPr/>
            </p:nvSpPr>
            <p:spPr>
              <a:xfrm>
                <a:off x="3947400" y="4198680"/>
                <a:ext cx="1176120" cy="587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rez Gen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1"/>
              <p:cNvSpPr/>
              <p:nvPr/>
            </p:nvSpPr>
            <p:spPr>
              <a:xfrm>
                <a:off x="3443760" y="2435400"/>
                <a:ext cx="839880" cy="176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AutoShape 22"/>
              <p:cNvSpPr/>
              <p:nvPr/>
            </p:nvSpPr>
            <p:spPr>
              <a:xfrm>
                <a:off x="252000" y="3863160"/>
                <a:ext cx="1427760" cy="1427400"/>
              </a:xfrm>
              <a:prstGeom prst="can">
                <a:avLst>
                  <a:gd name="adj" fmla="val 1507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CLS K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RI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22"/>
              <p:cNvSpPr/>
              <p:nvPr/>
            </p:nvSpPr>
            <p:spPr>
              <a:xfrm>
                <a:off x="1931760" y="3863160"/>
                <a:ext cx="1428120" cy="1427400"/>
              </a:xfrm>
              <a:prstGeom prst="can">
                <a:avLst>
                  <a:gd name="adj" fmla="val 1507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Bpedi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1"/>
              <p:cNvSpPr/>
              <p:nvPr/>
            </p:nvSpPr>
            <p:spPr>
              <a:xfrm>
                <a:off x="1427760" y="2435400"/>
                <a:ext cx="672120" cy="142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95880" y="4450680"/>
                <a:ext cx="419760" cy="3358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03280"/>
                    <a:tab algn="l" pos="1006560"/>
                    <a:tab algn="l" pos="1509840"/>
                    <a:tab algn="l" pos="2013120"/>
                    <a:tab algn="l" pos="2516040"/>
                    <a:tab algn="l" pos="3019320"/>
                    <a:tab algn="l" pos="3522600"/>
                    <a:tab algn="l" pos="4025880"/>
                    <a:tab algn="l" pos="4529160"/>
                    <a:tab algn="l" pos="5032440"/>
                    <a:tab algn="l" pos="5535720"/>
                    <a:tab algn="l" pos="6039000"/>
                    <a:tab algn="l" pos="6541920"/>
                    <a:tab algn="l" pos="7045200"/>
                    <a:tab algn="l" pos="7548480"/>
                    <a:tab algn="l" pos="8051760"/>
                    <a:tab algn="l" pos="8555040"/>
                    <a:tab algn="l" pos="9058320"/>
                    <a:tab algn="l" pos="9561600"/>
                    <a:tab algn="l" pos="1006488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9"/>
              <p:cNvSpPr/>
              <p:nvPr/>
            </p:nvSpPr>
            <p:spPr>
              <a:xfrm>
                <a:off x="2099880" y="4786560"/>
                <a:ext cx="1175760" cy="419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epto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9"/>
              <p:cNvSpPr/>
              <p:nvPr/>
            </p:nvSpPr>
            <p:spPr>
              <a:xfrm>
                <a:off x="335880" y="4786560"/>
                <a:ext cx="1175760" cy="419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nseLa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4"/>
              <p:cNvSpPr/>
              <p:nvPr/>
            </p:nvSpPr>
            <p:spPr>
              <a:xfrm flipV="1">
                <a:off x="3191760" y="4534560"/>
                <a:ext cx="755640" cy="33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1343520" y="4618800"/>
                <a:ext cx="25164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15640" y="4618800"/>
                <a:ext cx="16776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Line 92"/>
            <p:cNvSpPr/>
            <p:nvPr/>
          </p:nvSpPr>
          <p:spPr>
            <a:xfrm>
              <a:off x="168120" y="3611160"/>
              <a:ext cx="974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8120" y="2687760"/>
            <a:ext cx="9743760" cy="901440"/>
            <a:chOff x="168120" y="2687760"/>
            <a:chExt cx="9743760" cy="901440"/>
          </a:xfrm>
        </p:grpSpPr>
        <p:sp>
          <p:nvSpPr>
            <p:cNvPr id="134" name="Line 92"/>
            <p:cNvSpPr/>
            <p:nvPr/>
          </p:nvSpPr>
          <p:spPr>
            <a:xfrm>
              <a:off x="168120" y="2687760"/>
              <a:ext cx="974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1760" y="2855880"/>
              <a:ext cx="8147880" cy="587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ctorC Semantic Service B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4" descr="F:\vectorc\docs\www\VectorCWWW\WebContent\images\vectorc_logo.gif"/>
            <p:cNvPicPr/>
            <p:nvPr/>
          </p:nvPicPr>
          <p:blipFill>
            <a:blip r:embed="rId2"/>
            <a:stretch/>
          </p:blipFill>
          <p:spPr>
            <a:xfrm>
              <a:off x="2520000" y="2939400"/>
              <a:ext cx="419760" cy="4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95"/>
            <p:cNvSpPr/>
            <p:nvPr/>
          </p:nvSpPr>
          <p:spPr>
            <a:xfrm>
              <a:off x="9155880" y="2939400"/>
              <a:ext cx="75564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B/S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839880" y="1344600"/>
            <a:ext cx="9072000" cy="1298520"/>
            <a:chOff x="839880" y="1344600"/>
            <a:chExt cx="9072000" cy="1298520"/>
          </a:xfrm>
        </p:grpSpPr>
        <p:sp>
          <p:nvSpPr>
            <p:cNvPr id="139" name="Rectangle 17"/>
            <p:cNvSpPr/>
            <p:nvPr/>
          </p:nvSpPr>
          <p:spPr>
            <a:xfrm>
              <a:off x="839880" y="1344600"/>
              <a:ext cx="1343520" cy="1090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p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239760" y="2267640"/>
              <a:ext cx="6721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56944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56944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9880" y="0"/>
            <a:ext cx="840096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4360" y="66960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6080" y="808200"/>
            <a:ext cx="731520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39760" y="4834080"/>
            <a:ext cx="4952880" cy="26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30880" y="3081240"/>
            <a:ext cx="5421240" cy="358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2906640" y="4038480"/>
            <a:ext cx="0" cy="795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32000" y="808200"/>
            <a:ext cx="1249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90280" y="2700360"/>
            <a:ext cx="1107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30880" y="5032440"/>
            <a:ext cx="3124080" cy="2286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1720" y="163440"/>
            <a:ext cx="8305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emantic Mismatch between Wikipedia and DBp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192640" y="4313160"/>
            <a:ext cx="4832280" cy="3176640"/>
            <a:chOff x="5192640" y="4313160"/>
            <a:chExt cx="4832280" cy="317664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7594560" y="4313160"/>
              <a:ext cx="2430360" cy="31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5" name=""/>
            <p:cNvSpPr/>
            <p:nvPr/>
          </p:nvSpPr>
          <p:spPr>
            <a:xfrm>
              <a:off x="5192640" y="7056360"/>
              <a:ext cx="236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19836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store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16080" y="1798560"/>
          <a:ext cx="9435960" cy="4969080"/>
        </p:xfrm>
        <a:graphic>
          <a:graphicData uri="http://schemas.openxmlformats.org/drawingml/2006/table">
            <a:tbl>
              <a:tblPr/>
              <a:tblGrid>
                <a:gridCol w="3144600"/>
                <a:gridCol w="3111480"/>
                <a:gridCol w="3179880"/>
              </a:tblGrid>
              <a:tr h="4669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tu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gro Gra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32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 Hierarchy In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ed Data Deplo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t-in sup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arty software (e.g., Pubb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780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ry Fed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ed Data Spaces (SPARQL against resource URI’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t-in support (Sesame and Oracle only). For other triplestores, a 3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arty middleware approach is requir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3280" y="426960"/>
            <a:ext cx="9069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ted Que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eDeR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54360" y="3246480"/>
            <a:ext cx="4495680" cy="762120"/>
          </a:xfrm>
          <a:prstGeom prst="rect">
            <a:avLst/>
          </a:prstGeom>
          <a:solidFill>
            <a:srgbClr val="00b8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D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18600" y="2255760"/>
            <a:ext cx="1995840" cy="3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derated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8080" y="2637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41360" y="4923000"/>
            <a:ext cx="1654560" cy="3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que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98760" y="4923000"/>
            <a:ext cx="1654560" cy="3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que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059280" y="4008600"/>
            <a:ext cx="167616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88080" y="40086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92640" y="4008600"/>
            <a:ext cx="289584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64040" y="44658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17560" y="4923000"/>
            <a:ext cx="1668240" cy="3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query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9280" y="5303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70680" y="5913360"/>
            <a:ext cx="1119600" cy="60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D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5303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8440" y="5913360"/>
            <a:ext cx="1055520" cy="60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UP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50760" y="3322800"/>
            <a:ext cx="1249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tion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6600" y="1362240"/>
            <a:ext cx="934092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FIX db: &lt;http://www.w3.org/2003/01/21-RDF-RDB-access/ns#SqlDB?properties=..%2Ftest%2F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FIX re: &lt;http://receptor.example/re#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FIX dp: &lt;http://receptor.example/dp#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LECT ?abstract ?code ?ligand ?hum_seq_id ?chr ?refseq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ROM NAMED db:IUPHAR.pr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ROM NAMED db:DBPedia.rd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# Get info from the (SQL) IUPHAR receptor tabl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RAPH db:IUPHAR.prop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:Cod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code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:Ligand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ligand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:Human_nucleotid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hum_seq_id 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# Get info from (RDF) DBPedi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RAPH db:DBPedia.rdf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p:chromosom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chr .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p:refseq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refseq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p:symbol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symbol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b:abstract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abstract 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480" y="301320"/>
            <a:ext cx="99057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Join between IUAPHAR &amp; DBPedi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GABAB recep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886360" y="1984320"/>
            <a:ext cx="4114800" cy="3930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3170160"/>
            <a:ext cx="5726160" cy="984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319880" y="4683240"/>
            <a:ext cx="685800" cy="1238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57920" y="4651200"/>
            <a:ext cx="1066680" cy="2286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62440" y="3170160"/>
            <a:ext cx="943200" cy="1713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78280" y="3780000"/>
            <a:ext cx="838440" cy="2286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49840" y="3246480"/>
            <a:ext cx="304920" cy="1447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92640" y="4008600"/>
            <a:ext cx="2210040" cy="1143000"/>
          </a:xfrm>
          <a:custGeom>
            <a:avLst/>
            <a:gdLst/>
            <a:ahLst/>
            <a:rect l="l" t="t" r="r" b="b"/>
            <a:pathLst>
              <a:path w="1392" h="720">
                <a:moveTo>
                  <a:pt x="0" y="0"/>
                </a:moveTo>
                <a:lnTo>
                  <a:pt x="0" y="720"/>
                </a:lnTo>
                <a:lnTo>
                  <a:pt x="1248" y="720"/>
                </a:lnTo>
                <a:lnTo>
                  <a:pt x="1248" y="432"/>
                </a:lnTo>
                <a:lnTo>
                  <a:pt x="1392" y="432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7120" y="6066000"/>
            <a:ext cx="1119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47040" y="4237200"/>
            <a:ext cx="1055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UP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R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the HCLS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he value and use of HCLS KB by identifying scientific us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human-friendly us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and publish findings to help accelerate/promote adoption of the Semantic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, pharmaceutical companies, start-up companies, government institutes, W3C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100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D: vocabulary of interlinked 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66520"/>
            <a:ext cx="907092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fective Dataset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ficient Discovery of Datasets, by search engines or data publis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PARQL query optimisation and query fed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wo high-level conce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taset: a dataset is published and maintained by a single provider and accessible on the Web through de-referenceable URIs or a SPARQL end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inkset: a subset of a void:Dataset; store triples to express the interlinking relationship between data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oiD Vocabulary, http://rdfs.org/ns/void/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oiD User's Guide, http://rdfs.org/ns/void-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ological Dataset in voi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040" y="1569960"/>
            <a:ext cx="9372600" cy="3886200"/>
          </a:xfrm>
          <a:prstGeom prst="roundRect">
            <a:avLst>
              <a:gd name="adj" fmla="val 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4680" y="1798560"/>
            <a:ext cx="90961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senselabontology a void:Dataset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title "SenseLab Neuron Ontology"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description "Neuroscience ontology derived from the SenseLab NeuronDB database.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license &lt;&gt; ;    # T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af:homepage   &lt;http://neuroweb.med.yale.edu/senselab/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exampleResource &lt;http://purl.org/science/owl/sciencecommons/identified_by_pmid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exampleResource &lt;http://purl.org/ycmi/senselab/neuron_ontology.owl#has_Receptor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exampleResource &lt;http://purl.org/ycmi/senselab/neuron_ontology.owl#NMDA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creator  :senselab ; ## this organization can be further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ource  &lt;http://purl.org/ycmi/senselab/neuron_ontology.owl#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ubject &lt;http://purl.org/ycmi/senselab/neuron_ontology.owl#Receptor&gt;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ubject &lt;http://dbpedia.org/resource/Receptor_(biochemistry)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ubject &lt;http://dbpedia.org/resource/Neurotransmitter_receptor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ubject &lt;http://dbpedia.org/resource/Sensory_receptor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ource &lt;doi:10.1093/bib/bbm018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feature :owl ; ## this technical feature can be further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sparqlEndpoint &lt;http://hcls.deri.org:8080/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vocabulary &lt;http://www.obofoundry.org/ro/ro.owl&gt;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iD De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loy a voiD file (in either Turtle, RDF/XML or RDFa format) onto the Web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it accessible to search engines, such as Sindice (http://sindice.com/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sh a Semantic Sitemap file (sitemap.xml) on the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.. allows Data publishers to state where documents containing RDF data are located, and to advertise alternative means to access it ......” 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datasetURI property in the sitemap.xml to point to the voiD description of a dataset, e.g.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euroweb.med.yale.edu/senselab/senselab-void.ttl#senselab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 http://sw.deri.org/2007/07/sitemapextensio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39400" y="1569960"/>
            <a:ext cx="9489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92760" indent="-2944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iferation of synonymous URI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bpedia.org/resource/Dopamine_recep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url.org/ycmi/senselab/neuron_ontology.owl#Dopaminergic_Recep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ment of nomenclature committee (e.g., IUPHAR) and domain authority (e.g., Neuroscience Information Framework or N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t/permanent URI scheme (e.g., PU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http://purl.org/nif/ontology/NIF-Molecule.owl#nifext_583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ferenceable URI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referenceable URI is a resource identification mechanism that uses the HTTP protocol to obtain a representation of the resource it identif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inked Data, the representation takes the form of an information resource that describes the resource that the URI identif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a paper describing the query federation work to a journal or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and extend current tasks: Query Federation and a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ew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semantic wiki, workflow, user interfac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the HCLS KB (both insta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new datasets such as UM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with other 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LODD (natural alternative use case, Faviki) and SWAN/SI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4680" y="301752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RDF Activities/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ited 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LS, NCBO, NIF, Biogateway, WikiNeuron, Gene Wiki, 3D Web Visualization, BioSIOC/aTag, Vo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LS 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instances of HCLS KB have been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 (Virtuos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7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com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University in Berlin (Allegro Grap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7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Lab and TCMGeneD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oscience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receptors to the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thias Samwald, Kei Che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 Cheung, Rob Frost, Kingsley Idehen, Scott Marshall, Adrian Paschke , Eric Prud’hommeaux, Matthias Samwald, Jun Zh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906768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: Neuron and Syna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68400" y="7031160"/>
            <a:ext cx="1857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rtesy of N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94160" y="4368960"/>
            <a:ext cx="3886200" cy="262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5640" y="3932280"/>
            <a:ext cx="3962520" cy="267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004160" y="225576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708520" y="1265400"/>
            <a:ext cx="3657600" cy="2666880"/>
            <a:chOff x="5708520" y="1265400"/>
            <a:chExt cx="3657600" cy="266688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5708520" y="1265400"/>
              <a:ext cx="36576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V="1">
              <a:off x="7025760" y="2516040"/>
              <a:ext cx="703080" cy="205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907920" y="808200"/>
            <a:ext cx="3962520" cy="26748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870440" y="960480"/>
            <a:ext cx="1904760" cy="304560"/>
            <a:chOff x="4870440" y="960480"/>
            <a:chExt cx="1904760" cy="304560"/>
          </a:xfrm>
        </p:grpSpPr>
        <p:sp>
          <p:nvSpPr>
            <p:cNvPr id="64" name=""/>
            <p:cNvSpPr/>
            <p:nvPr/>
          </p:nvSpPr>
          <p:spPr>
            <a:xfrm>
              <a:off x="4870440" y="960480"/>
              <a:ext cx="1904760" cy="304560"/>
            </a:xfrm>
            <a:custGeom>
              <a:avLst/>
              <a:gdLst/>
              <a:ahLst/>
              <a:rect l="l" t="t" r="r" b="b"/>
              <a:pathLst>
                <a:path w="1200" h="192">
                  <a:moveTo>
                    <a:pt x="0" y="0"/>
                  </a:moveTo>
                  <a:cubicBezTo>
                    <a:pt x="284" y="8"/>
                    <a:pt x="568" y="16"/>
                    <a:pt x="768" y="48"/>
                  </a:cubicBezTo>
                  <a:cubicBezTo>
                    <a:pt x="968" y="80"/>
                    <a:pt x="1084" y="136"/>
                    <a:pt x="1200" y="19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27520" y="1150920"/>
              <a:ext cx="228600" cy="95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248760" y="2637000"/>
            <a:ext cx="635040" cy="2666880"/>
            <a:chOff x="9248760" y="2637000"/>
            <a:chExt cx="635040" cy="2666880"/>
          </a:xfrm>
        </p:grpSpPr>
        <p:sp>
          <p:nvSpPr>
            <p:cNvPr id="67" name=""/>
            <p:cNvSpPr/>
            <p:nvPr/>
          </p:nvSpPr>
          <p:spPr>
            <a:xfrm>
              <a:off x="9248760" y="2637000"/>
              <a:ext cx="635040" cy="2666880"/>
            </a:xfrm>
            <a:custGeom>
              <a:avLst/>
              <a:gdLst/>
              <a:ahLst/>
              <a:rect l="l" t="t" r="r" b="b"/>
              <a:pathLst>
                <a:path w="592" h="1872">
                  <a:moveTo>
                    <a:pt x="96" y="0"/>
                  </a:moveTo>
                  <a:cubicBezTo>
                    <a:pt x="344" y="276"/>
                    <a:pt x="592" y="552"/>
                    <a:pt x="576" y="864"/>
                  </a:cubicBezTo>
                  <a:cubicBezTo>
                    <a:pt x="560" y="1176"/>
                    <a:pt x="280" y="1524"/>
                    <a:pt x="0" y="187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9248760" y="5149800"/>
              <a:ext cx="90000" cy="153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193560" y="6579720"/>
            <a:ext cx="3243600" cy="684360"/>
            <a:chOff x="3193560" y="6579720"/>
            <a:chExt cx="3243600" cy="684360"/>
          </a:xfrm>
        </p:grpSpPr>
        <p:sp>
          <p:nvSpPr>
            <p:cNvPr id="70" name=""/>
            <p:cNvSpPr/>
            <p:nvPr/>
          </p:nvSpPr>
          <p:spPr>
            <a:xfrm>
              <a:off x="3193920" y="6595200"/>
              <a:ext cx="3243240" cy="668880"/>
            </a:xfrm>
            <a:custGeom>
              <a:avLst/>
              <a:gdLst/>
              <a:ahLst/>
              <a:rect l="l" t="t" r="r" b="b"/>
              <a:pathLst>
                <a:path w="2352" h="528">
                  <a:moveTo>
                    <a:pt x="2352" y="288"/>
                  </a:moveTo>
                  <a:cubicBezTo>
                    <a:pt x="1828" y="408"/>
                    <a:pt x="1304" y="528"/>
                    <a:pt x="912" y="480"/>
                  </a:cubicBezTo>
                  <a:cubicBezTo>
                    <a:pt x="520" y="432"/>
                    <a:pt x="260" y="216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193560" y="6579720"/>
              <a:ext cx="99000" cy="91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92040" y="2844360"/>
            <a:ext cx="482400" cy="2362320"/>
            <a:chOff x="392040" y="2844360"/>
            <a:chExt cx="482400" cy="2362320"/>
          </a:xfrm>
        </p:grpSpPr>
        <p:sp>
          <p:nvSpPr>
            <p:cNvPr id="73" name=""/>
            <p:cNvSpPr/>
            <p:nvPr/>
          </p:nvSpPr>
          <p:spPr>
            <a:xfrm>
              <a:off x="392040" y="2844720"/>
              <a:ext cx="482400" cy="2361960"/>
            </a:xfrm>
            <a:custGeom>
              <a:avLst/>
              <a:gdLst/>
              <a:ahLst/>
              <a:rect l="l" t="t" r="r" b="b"/>
              <a:pathLst>
                <a:path w="304" h="1488">
                  <a:moveTo>
                    <a:pt x="208" y="1488"/>
                  </a:moveTo>
                  <a:cubicBezTo>
                    <a:pt x="104" y="1204"/>
                    <a:pt x="0" y="920"/>
                    <a:pt x="16" y="672"/>
                  </a:cubicBezTo>
                  <a:cubicBezTo>
                    <a:pt x="32" y="424"/>
                    <a:pt x="168" y="212"/>
                    <a:pt x="304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79400" y="2844360"/>
              <a:ext cx="95040" cy="152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294156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y simple, generic way of expressing biomedica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short snippet of text + a list of ontology terms used for describing the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ing established vocabulary (SIOC, OBO ontolog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coded in RDFa (easy to embed in existing HTML-based system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17600" y="2394000"/>
            <a:ext cx="6962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Transmitter 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ems to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activa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eceptor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3800" y="3780000"/>
            <a:ext cx="7576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eceptor 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is expressed i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brain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eg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5111640"/>
            <a:ext cx="106664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egion B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has strong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axonal pro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o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brain region 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ags will be creat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version of existing biomedical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nual curation of data (highlight text snippet in browser &amp; click on del.icio.us – like bookmark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sign philosophy: simplicity and practic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se exist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lay along with existing systems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HTML content management, RDFa-enabled search eng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4680" y="301752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y 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ot</dc:creator>
  <dc:description/>
  <dc:language>en-US</dc:language>
  <cp:lastModifiedBy>kc28</cp:lastModifiedBy>
  <dcterms:modified xsi:type="dcterms:W3CDTF">2009-02-24T21:26:07Z</dcterms:modified>
  <cp:revision>18</cp:revision>
  <dc:subject/>
  <dc:title>voiD: vocabulary of interlinked Datasets</dc:title>
</cp:coreProperties>
</file>